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explode.wav" ContentType="audio/x-wav"/>
  <Override PartName="/ppt/media/image11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D53-EDC0-42A1-A71E-F8EA9518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8F01-0369-4E3A-AE63-65717783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527-59C6-4529-BE66-699D589C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C16-2581-40A1-980C-0ECDB0EE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53B8-9CBA-4B4E-85CE-0021DF55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4DE0-D32A-46E1-9167-C3986547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958F-99F6-4D0A-A671-9836A178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9C31-A087-4B59-9401-A4E2522D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40FE-10FB-4F4B-A4A2-26DD5696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786F-69C5-4094-8962-430B62FF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049B-9C2D-4822-9732-8B788F6E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7F8-B324-4F9E-A0D6-13FCADF4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0A66-A357-4BAE-BBEC-F235E7CB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A66B-7442-46E9-8F89-E16AB0D8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82BD-3346-47C5-80B0-EF26622D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C699-CD00-455F-BAD2-9916F375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DB0C-64DB-43F6-A1A0-A20ACEBB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58A3A-0A64-4559-9D45-16A94C8D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8894D-729D-4728-85AB-5038F7A4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402E1-43E5-4CA2-B772-D6456F14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52917-0F13-4DE1-BCB4-249384C2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06B12-50BF-4030-A97B-AC88E7A3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AEA-B093-4F53-B425-76CD8675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064D-0DB9-424E-8B34-D212B347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5E2B0-B694-4D61-829F-38378CAC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23B3F-A3C9-4D6E-B296-DB074314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0E8C-F224-42F8-9025-E1817972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F5C1-7ACB-493B-A704-FB28D19D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4E54D-72A1-4EE2-AC42-49EE4B91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466E1-2195-439D-84BD-172DC123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6CBC6-19A5-4B2A-B256-78CDCCE7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B4F53-8085-47FE-B13D-82678E5B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71E42-636C-4BB4-8ED5-B90D5FC9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2E69-599F-4B95-A063-B465C99A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50E95-C65E-482F-AE2C-BD052B1A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C0BA1-B32A-4BA9-98C3-9CFFE0A9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D6DEC-22C7-4C28-93EF-57556517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D4ED2-4E04-4A18-A2D1-D4DC8ACA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E8547-6859-4F66-A03E-4C93FD15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AFBB1-58EB-4E5C-BDDD-E5CC80F3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F4A58-0251-4650-88A5-8E88F3D5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47832-AB55-4BDF-8EF8-75E9803C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B3441-1F4E-4A5B-8FF3-F9C49292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428A1-3373-436D-85F0-4091138C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1B3-F6F0-4B50-B43E-4656BB7D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0C992-CDE9-477E-A4E3-F2A3FB08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7FE83-F827-432A-A51D-850A54FA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1C803-6CDD-4B91-AA2D-0FAFD7D9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091A9-E242-4BB3-BC82-50ABCD3F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81107-7164-491E-B183-3C61321A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3C18B-39C1-47A0-AC30-16DB739E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B0511-8C3C-4D04-82F5-1246D4B0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351B9-09D2-4A78-9BEF-F28BAE4E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6D15E-BE0E-4704-9F31-5DC30A1F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135D5-D506-4D44-A939-D40C8733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8CA1-00B7-4944-8D58-3A359D7B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BC6FA-0A92-4F90-B2CA-C3EDA871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837F3-6419-40E9-A473-0905F045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74AE7-12C3-4D4F-9B73-AB0BE6D2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0616A-E32C-40A3-9B52-37E860CA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8FFF2-C66E-4362-93F2-EEB9C25C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D6175-BDEF-4385-9419-1390A76B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90550-4100-4AC8-A807-9DA31826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56F1E-92FA-484C-8805-9C0E2157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C0329-77B1-4A10-821A-AB947F60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9F84E-DB99-426C-B6C7-9234FC70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8D9-4438-4811-BB4C-E8C94C5B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FBF12-62C4-451E-BD0A-8CE05ADA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12102-332C-43A7-911C-99E21D72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18215-3AE0-45A6-92BB-DD2E3250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D57-13B2-4EDD-A996-4A9CA7A8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E96-0DFF-4662-A728-509229F7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C4A3-E7C0-4D86-8132-2D92F7B8926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e1500"/>
              </a:gs>
              <a:gs pos="50000">
                <a:srgbClr val="f7593d"/>
              </a:gs>
              <a:gs pos="100000">
                <a:srgbClr val="ae15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e9a49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539D-48AA-46D1-BCBA-6A59BF09D4B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EBC8-3DFB-4975-835A-49FA5312E33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118D-CD72-4902-9CE9-BAB78B0A7C4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4731-BF06-4EFC-8DD8-37683792EB6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70C9-2D50-486B-968C-C7800753B64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My  favorite  book  is  Stink. 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225360" y="79200"/>
            <a:ext cx="8467920" cy="1298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Program Files\Microsoft Office\MEDIA\CAGCAT10\j0217698.wmf"/>
          <p:cNvPicPr/>
          <p:nvPr/>
        </p:nvPicPr>
        <p:blipFill>
          <a:blip r:embed="rId2"/>
          <a:stretch/>
        </p:blipFill>
        <p:spPr>
          <a:xfrm>
            <a:off x="3699000" y="2583000"/>
            <a:ext cx="1746000" cy="1692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/>
    <p:sndAc>
      <p:stSnd>
        <p:snd r:embed="rId3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1" descr=""/>
          <p:cNvPicPr/>
          <p:nvPr/>
        </p:nvPicPr>
        <p:blipFill>
          <a:blip r:embed="rId1"/>
          <a:stretch/>
        </p:blipFill>
        <p:spPr>
          <a:xfrm>
            <a:off x="719280" y="105408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avorite   place   in  the   wood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ar.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81" name="Picture 2" descr="C:\Program Files\Microsoft Office\MEDIA\CAGCAT10\j0293844.wmf"/>
          <p:cNvPicPr/>
          <p:nvPr/>
        </p:nvPicPr>
        <p:blipFill>
          <a:blip r:embed="rId2"/>
          <a:stretch/>
        </p:blipFill>
        <p:spPr>
          <a:xfrm>
            <a:off x="914400" y="3352680"/>
            <a:ext cx="1738440" cy="1827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/>
    <p:sndAc>
      <p:stSnd>
        <p:snd r:embed="rId3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Title 1" descr=""/>
          <p:cNvPicPr/>
          <p:nvPr/>
        </p:nvPicPr>
        <p:blipFill>
          <a:blip r:embed="rId1"/>
          <a:stretch/>
        </p:blipFill>
        <p:spPr>
          <a:xfrm>
            <a:off x="719280" y="105408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Favorite  food    hamburger.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 advTm="8000">
    <p:wheel/>
    <p:sndAc>
      <p:stSnd>
        <p:snd r:embed="rId2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1" descr=""/>
          <p:cNvPicPr/>
          <p:nvPr/>
        </p:nvPicPr>
        <p:blipFill>
          <a:blip r:embed="rId1"/>
          <a:stretch/>
        </p:blipFill>
        <p:spPr>
          <a:xfrm>
            <a:off x="719280" y="105408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  famouse   person   that   I  want  to  meet    ozzy  osbourne.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 advTm="8000">
    <p:wheel/>
    <p:sndAc>
      <p:stSnd>
        <p:snd r:embed="rId2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0" y="-115920"/>
            <a:ext cx="8358120" cy="63453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I  am   afraid  of   sharks.   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 advTm="8000">
    <p:wheel/>
    <p:sndAc>
      <p:stSnd>
        <p:snd r:embed="rId2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itle 1" descr=""/>
          <p:cNvPicPr/>
          <p:nvPr/>
        </p:nvPicPr>
        <p:blipFill>
          <a:blip r:embed="rId1"/>
          <a:stretch/>
        </p:blipFill>
        <p:spPr>
          <a:xfrm>
            <a:off x="719280" y="1054080"/>
            <a:ext cx="8474040" cy="18414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What  I    want  to  be  when  I  grow   up    a  air  and  heating man.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 advTm="8000">
    <p:wheel/>
    <p:sndAc>
      <p:stSnd>
        <p:snd r:embed="rId2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1" descr=""/>
          <p:cNvPicPr/>
          <p:nvPr/>
        </p:nvPicPr>
        <p:blipFill>
          <a:blip r:embed="rId1"/>
          <a:stretch/>
        </p:blipFill>
        <p:spPr>
          <a:xfrm>
            <a:off x="719280" y="105408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y   subject  P.E.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 advTm="8000">
    <p:wheel/>
    <p:sndAc>
      <p:stSnd>
        <p:snd r:embed="rId2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3:26:49Z</dcterms:created>
  <dc:creator> pc#13</dc:creator>
  <dc:description/>
  <dc:language>en-US</dc:language>
  <cp:lastModifiedBy> pc#13</cp:lastModifiedBy>
  <dcterms:modified xsi:type="dcterms:W3CDTF">2009-11-12T20:10:43Z</dcterms:modified>
  <cp:revision>9</cp:revision>
  <dc:subject/>
  <dc:title>Who  am I </dc:title>
</cp:coreProperties>
</file>